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BEC5-4903-42E5-B542-ADDCED1DD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4833-4D7E-48BA-A47B-A5C701B0C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452-E36C-4530-9C59-58A0ED30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08D-105C-4050-9B98-4653341D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B7A1B-5DEF-4032-85A4-C5EF6364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B678A-4294-4AD8-8B21-85791A87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9630C-F64D-4C59-9761-09C0BC34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9B02B-CA7C-43B4-8C1F-EC87629D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86B68-AB4D-411A-A5B6-9CE3435F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2D3E8-B38D-4A57-B330-98566A60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7F842-D042-4F6D-A18E-E9D3ECBC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40499-34AC-4351-AE73-EE2C0BC5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0D300-BE3C-4867-8B42-8321E739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8E89D-EF42-4ED6-BC5E-FA385AFF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1BC-1079-4742-9505-C4FE244E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421D1-1EB2-4EEA-ABDA-93B6F457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A7C50-8E1A-4C44-A496-5A890767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DF88C-EE0E-4895-BB65-6D957AFA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67709-C48C-423A-8CF6-3B578EC1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C8CEC-63CC-430E-9DD8-7920D44E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D9565-4EC9-4776-813C-3F6141A5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CAA65-5ABD-43F1-9502-803937F1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7057E-26B7-4CB3-9BD8-63DCA0A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7A307-7C6E-4FD8-B16B-350CD909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689D5-17E5-4651-8EAA-9A88F553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988-B7C0-4D8E-AAA0-5660896A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E5720-D32D-4613-9FB6-45EFC363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4D6D4-64CC-459C-BA16-FCD0800B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91B91-EA47-4BD3-B008-96B258AE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F7ECB-AB53-4E00-96AD-5A173443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4FF0B-F778-4890-BADB-E5DC3C92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32A1D-0E5E-4CE2-9E8B-73F58E4F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A1BC8-2CCB-49C7-81DF-6CC068EC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51535-4C5F-4052-9A1A-16ADEFF3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17215-6DF2-431E-B04E-21EE5DD6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1281D-DB0A-4371-8A77-3881F057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BCA0-AF4A-4930-98C2-784951A2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999D0-058B-4FF0-91A0-62591AAF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7ADD6-44FC-46B7-86AC-1E847FC9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78F7A-594C-4B84-8B65-D43DB3BD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E49A5-5841-4DDA-BA29-3F1803BE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CAE0D-268A-49C7-BC7B-36C3B415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EC4F5-A0CA-42A0-AFEF-618FC47E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1F641-2D2C-42F0-93BD-037826E9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DC2DE-AB43-4CA0-A08F-B9BD664B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DA9E6-C5B7-4D13-8C79-3EF28A9F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2FABD-0E3B-48CE-B697-FDE3509D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7D83-15ED-4A46-8AAA-7FC677DA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6B085-AF63-4086-A969-9A7E44EB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4A295-FFAC-4397-9A8B-B7F2D7AC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A8106-FB12-4852-BEF0-B05B2814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F9D6A-937B-4702-9A77-15CE2732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77347-738E-486B-8FE4-8445CB55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4F542-9E93-4478-9EE1-7E52EFD7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026AE-58B5-4539-8202-FA9B3F43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3B0D8-FC11-4243-8BDA-808ABF0A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D70B4-5798-4071-BA14-2F16BAA7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7292A-5736-44A2-A55C-AC4241AF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FC16-BB4A-4B0E-B1AF-B318C13F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6AF15-1E90-428C-A509-FB34611F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DBCCF-EE4F-494B-B5D2-916E3099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3E416-A0E5-4849-8C6A-07B260FB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97109-F2E2-4588-9A9D-F944765D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A2914-8F16-45FD-AEFF-105C762D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4FF6F-D486-4B1E-9362-48D57D8E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853EC-AA22-442E-8EB2-32EBE135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433F-6D81-491B-8F50-FB452B50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59E1-135B-4D77-8904-661B6637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07F6-A459-453C-9261-D70E257B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EEED-8C1B-4966-A2A4-0F434143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9E4-44BE-420D-8859-C2282167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8AE6-AA32-40B7-A8C8-20340CF7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5A67-52FA-4C6D-8AEC-4A08AB8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B34B-4678-4245-B0BD-0F82F516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B17A-28FF-4840-9BFF-F801F3F9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17A0-A5E9-4CCA-89A6-F654C197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F367-5B56-4E51-9EE2-40C3825A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794F-05A2-4189-9922-85F2016E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0E945-E0A1-4AA6-ABC1-727B9549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00FD-454A-44B0-86AC-65304E36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8A47-7CFE-4FFE-970F-37000A57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31E-7AA2-41CF-BB7A-2B6A2136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759E-4BD7-4122-9BB3-7067AF59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0B68-595D-4A63-99D5-DDD1810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D57A-E36B-44D3-956D-444C32CA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242D-C4BB-403E-8D1E-73954E87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436E5-A139-4EAB-8A51-EAE88693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C8214-147F-4685-BAA1-65F28542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5F92-3A44-496C-8676-66D908B9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EA84-2532-44F9-9DB2-242711F4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FD065-E4AD-4AFB-807F-F2BF4FFC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AB819-0206-4E09-9C2B-055F9DC7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A2D-079F-478E-8E74-33955DE4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1D8DF-19AB-4608-8EA8-AF2BACD9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A2E9B-89FF-48F8-9C7B-B7531F6C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D2972-A5F2-4406-8FF8-159D6BF8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979A-19DA-44F6-9D7E-AA3BC767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935C-C7F8-4D99-9242-30E98391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1A65-46B0-490E-87BC-901D157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035AD-EC75-4A03-8DA8-CE27F12C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F918-FC93-426D-AD61-FCFA0F60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08A27-BFA0-46D4-8968-5DAF7752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6BA9-CF93-45E8-829E-CACA7340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31E-ADDB-4D37-84F1-813AF81A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4E119-3BC1-4E66-AC58-BB0EDDAA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46466-007B-4DCA-925C-6F797939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D224-7AE7-481B-A3A7-98FC51F3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BDC0F-F150-4923-8553-F0B54FF1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92720-FF15-4C7D-97C3-EB0BA917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F3D83-8AAA-4942-BD92-2BC8BB61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0A623-D0CE-44BD-9D99-7FDABFEA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EACB-EE56-4AAF-A9A8-E8F750C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C9CE7-665C-4918-A61B-9EC68270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FAE6-5999-4354-BAFE-14EEE55C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A74-E5D1-4B12-98A5-5626DF9D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C6484-FF70-46AF-9FB2-57BBF984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C5E2F-7F2C-4AE3-894F-8D3AEF36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A3744-B666-4F4A-9AC9-BEEBDE57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CAFBA-D9B9-4F23-9162-A4BA634C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92929-E152-4B9A-891D-F649B86A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85030-98B5-4E56-9D30-1262CB70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9C282-854C-4AA8-9CB6-7C9B77A5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813E-0377-4E21-9243-3629F190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A9799-CF13-407F-8111-F4792C06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DFF28-B177-49AA-A6DE-145FEA77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4E8-C796-4A99-A0C8-D2DF1AA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F549C-36D9-4EF1-AAB4-EE3977E3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FE0A3-CCD5-4CF4-AFBE-E1266691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30C89-C7B2-49A7-8BDF-8FC99740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3FF3B-37A8-40F4-ABF9-6F115AC7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68D81-B098-48FD-A4E7-5D64F60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6215C-B705-4F1D-86D5-0F925D9D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0D24-5A1E-4B24-AD2F-0DE52CDE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2E66C-30F6-448D-ABB4-615DAEF6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846C9-0237-49BB-B355-DA25AB68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44DCF-20E6-4214-A113-0D47C185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13B-CF07-4BBF-A6DC-277A600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9BDC3-26F3-49B3-B8AC-E082B20E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ACFD7-FA82-4B23-B8D5-740017E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5EF88-A9EB-4F28-BB66-8A94F9CA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6D844-4C36-498C-AF33-938F2D91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30857-0B16-47C6-B609-78A86329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D1025-1713-451C-A732-6213FF3B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8F926-FA97-4710-810A-42A42D42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BDD9C-0C04-43E6-A06A-8DC0F2FA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68D2C-F52B-47C4-8BD7-8063B46E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6F6FA-36B1-499F-8E26-9FCD8854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D96-FDDE-4561-A09E-6A8C5EB9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DF890-2305-4799-A47A-746E46C3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21FAC-B8C7-4393-8ADD-5F37F8C2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117C0-4A8F-487F-8F48-DA2A44C9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3F05B-A6E6-40F8-9D3B-C3B64BA5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16C01-72F2-4532-BC33-FB254532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00E7A-42C2-4DF5-94CA-B2FAA3F4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34D96-E2B4-4851-846C-64C9D278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079D1-63D8-4282-9F31-D00D6392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CD515-440B-4CC6-B569-6B95E6D4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DE08A-25D3-4A29-B03E-3E9A4A40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F0FD-7724-43CC-A1FD-2DC7D685B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DFA1-769F-4393-BF89-E05C909556C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3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E916-1AFA-43D2-8766-DEDCEE5632E0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779E-9A7C-41A1-A992-0AF8BD5070B6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1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A85E-201F-4C00-8A8D-37115AFE940A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475-8458-4DA8-9764-B0FF1AFA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6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AA4D-E0EA-42C6-A344-C7251D558C23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09F1-77ED-47AF-80E0-1CB70256FB5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7C99-46D5-4398-8A3D-3A7F26D5D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A101-3874-47B7-AAE3-10AFBEF1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05E7-43F5-4DC0-8E99-AA888D51C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6FB0-E860-4DF0-A5B7-B60651139C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9218-B291-4ED8-9317-731981D66C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&#233;ctor_Abad_Faciolince" TargetMode="External"/><Relationship Id="rId2" Type="http://schemas.openxmlformats.org/officeDocument/2006/relationships/hyperlink" Target="http://daytranslations.com/famous_colombians.aspx" TargetMode="External"/><Relationship Id="rId3" Type="http://schemas.openxmlformats.org/officeDocument/2006/relationships/hyperlink" Target="http://en.wikipedia.org/wiki/Andes" TargetMode="External"/><Relationship Id="rId4" Type="http://schemas.openxmlformats.org/officeDocument/2006/relationships/hyperlink" Target="http://en.wikipedia.org/wiki/Amazon_Rainfores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mb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annah Staska and Amanda Va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mbian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n Weasel- an endangered species. Weighs approximately 138 g. The live close 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ton Top Tamarin- Weighs about 1 pound. Found near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n Squirrel Monkey- Exhibits grayish- brown coloration with a very pale orange ti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Colombian Weasel.jpg"/>
          <p:cNvPicPr/>
          <p:nvPr/>
        </p:nvPicPr>
        <p:blipFill>
          <a:blip r:embed="rId2"/>
          <a:stretch/>
        </p:blipFill>
        <p:spPr>
          <a:xfrm>
            <a:off x="914400" y="4724280"/>
            <a:ext cx="1765440" cy="12765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otton Top Tamarin.jpg"/>
          <p:cNvPicPr/>
          <p:nvPr/>
        </p:nvPicPr>
        <p:blipFill>
          <a:blip r:embed="rId3"/>
          <a:stretch/>
        </p:blipFill>
        <p:spPr>
          <a:xfrm>
            <a:off x="4114800" y="4724280"/>
            <a:ext cx="1219320" cy="12384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Squirrel Monkey.jpg"/>
          <p:cNvPicPr/>
          <p:nvPr/>
        </p:nvPicPr>
        <p:blipFill>
          <a:blip r:embed="rId4"/>
          <a:stretch/>
        </p:blipFill>
        <p:spPr>
          <a:xfrm>
            <a:off x="6781680" y="4648320"/>
            <a:ext cx="114300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abriel Garcia Marquez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e wrote the novel, “One Hundred Years of Solitude”, in 1967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antiago Gamboa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uthor of the travel book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Octubre en Pekin(October in Pekin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èctor Abad Faciolince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bad is best known for his novel,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Angost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gotà        Pop: 7,102,6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li            Pop: 2,392,87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dellín     Pop: 1,999,97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ogotà                                     Cali                                 Medellí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0" name="Picture 4" descr="Bogota.jpg"/>
          <p:cNvPicPr/>
          <p:nvPr/>
        </p:nvPicPr>
        <p:blipFill>
          <a:blip r:embed="rId2"/>
          <a:stretch/>
        </p:blipFill>
        <p:spPr>
          <a:xfrm>
            <a:off x="762120" y="46483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Cali Colombia.jpg"/>
          <p:cNvPicPr/>
          <p:nvPr/>
        </p:nvPicPr>
        <p:blipFill>
          <a:blip r:embed="rId3"/>
          <a:stretch/>
        </p:blipFill>
        <p:spPr>
          <a:xfrm>
            <a:off x="3048120" y="4572000"/>
            <a:ext cx="2409840" cy="16257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medellin.jpg"/>
          <p:cNvPicPr/>
          <p:nvPr/>
        </p:nvPicPr>
        <p:blipFill>
          <a:blip r:embed="rId4"/>
          <a:stretch/>
        </p:blipFill>
        <p:spPr>
          <a:xfrm>
            <a:off x="5791320" y="4800600"/>
            <a:ext cx="2023920" cy="1335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occer is the most popular sport my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ere are many other sports played. There is not a specific one for 2 &amp; 3. Two other sports are cycling and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y/Top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s Mountain Range- worlds longest continental mountain range. Continental range of highlands along the West Coast of South America. 7,000 km long (4,300 m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azon Rainforest- only a little part of the rainforest is found in Colombia. It is believed to have formed in the Eocene 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anos- A vast tropical grassland plain. It is east of the Andes Mountains. In northwest South America, especially Colombia and Venezu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H%C3%A9ctor_Abad_Facioli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aytranslations.com/famous_colombians.asp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An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n.wikipedia.org/wiki/Amazon_Rainfor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ikitravel.org/en/El_Parque_Tayro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.wikipedia.org/wiki/Gabriel_Garc%C3%ADa_M%C3%A1rq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.wikipedia.org/wiki/Santiago_Gamb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opulation.mongabay.com/population/colo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veryculture.com/wc/Brazil-to-Congo-Republic-of/Columbian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25:46Z</dcterms:created>
  <dc:creator>User</dc:creator>
  <dc:description/>
  <dc:language>en-US</dc:language>
  <cp:lastModifiedBy>JSEAQUIS</cp:lastModifiedBy>
  <dcterms:modified xsi:type="dcterms:W3CDTF">2011-02-09T18:48:03Z</dcterms:modified>
  <cp:revision>16</cp:revision>
  <dc:subject/>
  <dc:title>Colombia!</dc:title>
</cp:coreProperties>
</file>